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5E3B056-1A6C-4F0F-8120-3A260564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8AF4B76-A21A-4E7D-A964-1A2561698E0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A648CBA-F0D1-4C14-A290-18D385EEB7A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593ED13-9734-4158-9872-1564E8300F8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540AC37-EAD0-4DF6-95EB-104A6128359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F993B94-3FFE-4093-87D5-AD3F1FABEC1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A78C7BB-5927-4C84-9592-164AD960EE0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9F84E1E-0A3D-4378-8328-D64DA4772E2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71AFD61-F3A9-45B8-BC61-45BD13D5135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B034288-A2B7-4A2F-BCA8-792FCF9122D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3DB09AE-18A7-4619-8AA1-120A70EF4A8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8621695-6952-46AB-84D0-F7379E96EC1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83B6D0B-D78E-484D-90BF-CE30A2E225D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5AA00AF-D359-446B-8387-F6BD3B01855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3015EF6-49DC-4216-AEDE-4FAA2BAAD03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C47C255-ADB0-4493-9C02-514FF75CE07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538A890-225C-4362-A455-2F238D4C0EF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9F4DE4C-6659-42AA-B41F-CF235462C8C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9E7BB3D-7DAC-41E1-B7B2-B61605DDA45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06BBB23-C0F5-4A14-B617-68C0F5B5654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D8FEAFE-46E9-493D-A43D-4F33902E8B4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899FAC3-F2A9-44A9-9DC9-AA4B22BD3AA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57D5F81-B4B9-4C61-BB4C-C7E56333B42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BDD20AD-9439-4C01-B5EB-0D7E7CB8E8F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755D2D1-A7C3-4A38-ACE9-ADC9C207C3D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4BECC27-6117-489D-9EB5-E3DFCF2F869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77F1D7F-1930-45B8-91EA-D1B4851E7ED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8210B02-77AD-4488-BF0D-F6E9B73D9CE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484A0C3-A4F6-4DF8-88B4-006F53C42B83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82D2014-B315-40CF-A0C1-55AD3B82015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62EE912-E437-4CB2-B3B7-9E7DDC09A41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42840" y="768240"/>
            <a:ext cx="5213520" cy="3837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67AEB37-46E9-46E9-90C9-A7A39261732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0F92F04-F9C0-478B-95FA-B312456AE20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DAAEFBC-7D4A-45AF-B2D7-250D6DF3799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E17B93E-46BD-4789-9EA0-B43DFDF57B3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A6C-DB1F-41E1-B21F-15EC6FA7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4F4-FFBB-4900-873B-6F24B10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B7C-FDF7-4480-9E73-ED5F1CFC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C8D-5893-4673-B837-FA9CE5CE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6C1-0E77-4757-9DD6-73D69D6D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DFF-E923-49F9-854B-08975E2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9F88-8D72-49D3-A756-4EBDABC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AEE5-444A-4122-A466-451AE8A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13C-8F3F-4E5F-B5B9-C7B9902B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604A-A760-4164-A2C9-BC1FD770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289-C812-43F8-928A-59A4D08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B66-4797-4D82-9B77-A4EB860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428F-FA56-45B3-B430-42D7A1E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A310-1367-46A5-99DF-CC576062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AB2-B495-4DCD-BBA9-B677FAE5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74A1-2877-4C2D-999A-804D6FFB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1E8D-9EDF-44B1-91E1-42D07DC2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C3F-AB0D-417E-8429-67EB469A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741-116F-4373-B44F-5E452B0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77F-5D3D-47F0-805E-E5A15F4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817-3C26-4233-A4D5-03BDB1C1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482-45F1-4890-8657-964C9B9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EE2-4FC9-4DEC-A839-4A86C1D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8F0-6AF9-4137-8FAE-27C15F8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D98-9748-428A-BB2C-A99EC5AC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829A-8EC1-4D9F-83EA-040E3469F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lus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Yahoo! Correl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he structure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2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3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3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3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AutoShape 16"/>
            <p:cNvCxnSpPr>
              <a:endCxn id="13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41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142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46" name="AutoShape 23"/>
            <p:cNvCxnSpPr>
              <a:stCxn id="136" idx="3"/>
              <a:endCxn id="142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148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51" name="AutoShape 31"/>
            <p:cNvCxnSpPr>
              <a:stCxn id="148" idx="1"/>
              <a:endCxn id="149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2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55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57" name="AutoShape 37"/>
          <p:cNvCxnSpPr>
            <a:stCxn id="148" idx="2"/>
            <a:endCxn id="158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159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160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62" name="AutoShape 41"/>
          <p:cNvCxnSpPr>
            <a:stCxn id="148" idx="2"/>
            <a:endCxn id="155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163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164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5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67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68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58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9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0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3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174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175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77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178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5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0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4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195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7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enerating the snippets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3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6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it-IT" sz="3600" spc="-1" strike="noStrike">
                <a:solidFill>
                  <a:srgbClr val="a40508"/>
                </a:solidFill>
                <a:latin typeface="Lucida Sans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Sans"/>
              </a:rPr>
              <a:t>Consider Wikipedia E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llection siz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 docs ≈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4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*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in total &gt;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 billion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avg term len = 6 char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distinct =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everal mill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kind of data structure do we build to support word-based searches 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B-based solution: 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Term-Doc matri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638680" y="5568840"/>
            <a:ext cx="2819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762120" y="2023920"/>
          <a:ext cx="7637400" cy="33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23920"/>
                    <a:ext cx="763740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11280" y="2492280"/>
            <a:ext cx="0" cy="2737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7"/>
          <p:cNvSpPr/>
          <p:nvPr/>
        </p:nvSpPr>
        <p:spPr>
          <a:xfrm rot="5400000">
            <a:off x="-483480" y="33984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terms &gt; 1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1908000" y="1989000"/>
            <a:ext cx="6266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643280" y="15318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docs ≈ 4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19480" y="537840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Sans"/>
              </a:rPr>
              <a:t>Space ≈ 4Tb !</a:t>
            </a: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3300"/>
                </a:solidFill>
                <a:latin typeface="Comic Sans MS"/>
              </a:rPr>
              <a:t>Retrieve docs that are “relevant” for the user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Doc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ile word or pdf, web page, email, blog, e-book,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Query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aradigm “bag of words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336600"/>
                </a:solidFill>
                <a:latin typeface="Tahoma"/>
              </a:rPr>
              <a:t>Relevant ?!?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oal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rrent solution: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17480" y="32004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226" name="Rectangle 9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232" name="Group 15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233" name="Rectangle 16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4" name="Rectangle 17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Rectangle 18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Rectangle 19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Line 20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8" name="Text Box 21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22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24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25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26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27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6" name="Group 29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247" name="Group 30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248" name="Rectangle 31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Rectangle 32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Rectangle 33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Rectangle 34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35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3" name="Text Box 36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Text Box 37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39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Text Box 40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Text Box 41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Text Box 43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1" name="Text Box 44"/>
          <p:cNvSpPr/>
          <p:nvPr/>
        </p:nvSpPr>
        <p:spPr>
          <a:xfrm>
            <a:off x="34668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AutoShape 45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AutoShape 47"/>
          <p:cNvSpPr/>
          <p:nvPr/>
        </p:nvSpPr>
        <p:spPr>
          <a:xfrm>
            <a:off x="1067400" y="5834520"/>
            <a:ext cx="7270920" cy="723240"/>
          </a:xfrm>
          <a:custGeom>
            <a:avLst/>
            <a:gdLst>
              <a:gd name="textAreaLeft" fmla="*/ 1326960 w 7270920"/>
              <a:gd name="textAreaRight" fmla="*/ 5943960 w 7270920"/>
              <a:gd name="textAreaTop" fmla="*/ 131760 h 723240"/>
              <a:gd name="textAreaBottom" fmla="*/ 591480 h 72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urrently they get 1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% original tex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85690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may use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N bits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should take about 1 bit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-coding for posting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docI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gaps between consecutive docI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33,  47,  154,  159,  202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3,  </a:t>
            </a:r>
            <a:r>
              <a:rPr b="0" lang="en-US" sz="2400" spc="-1" strike="noStrike">
                <a:solidFill>
                  <a:srgbClr val="da2a00"/>
                </a:solidFill>
                <a:latin typeface="Lucida Sans"/>
              </a:rPr>
              <a:t>14,  107,  5,      43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Lucida Sans"/>
              </a:rPr>
              <a:t>Two advantag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ace: store smaller integers (clustering?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eed: query requires just a sc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v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79520" y="580536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v) = 1/2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ice cod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simplification of Golomb cod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07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parametric code: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pends on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otient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q=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v-1)/k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the rest i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r= v – k * q –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when integers concentrated around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choose k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ually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0.69 *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v)     [Bernoulli mode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al for Pr(v) = p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v-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where mean(v)=1/p, and i.i.d i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124000" y="836640"/>
          <a:ext cx="4122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836640"/>
                    <a:ext cx="4122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2671200" y="234936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Lucida Sans"/>
              </a:rPr>
              <a:t>[q times 0s] 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246920" y="23493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Log k bits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2" name="Group 42"/>
          <p:cNvGrpSpPr/>
          <p:nvPr/>
        </p:nvGrpSpPr>
        <p:grpSpPr>
          <a:xfrm>
            <a:off x="396720" y="1714680"/>
            <a:ext cx="8204760" cy="2964240"/>
            <a:chOff x="396720" y="1714680"/>
            <a:chExt cx="8204760" cy="2964240"/>
          </a:xfrm>
        </p:grpSpPr>
        <p:sp>
          <p:nvSpPr>
            <p:cNvPr id="283" name="AutoShape 22"/>
            <p:cNvSpPr/>
            <p:nvPr/>
          </p:nvSpPr>
          <p:spPr>
            <a:xfrm rot="16200000">
              <a:off x="3624120" y="51552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3"/>
            <p:cNvSpPr/>
            <p:nvPr/>
          </p:nvSpPr>
          <p:spPr>
            <a:xfrm>
              <a:off x="15667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4"/>
            <p:cNvSpPr/>
            <p:nvPr/>
          </p:nvSpPr>
          <p:spPr>
            <a:xfrm>
              <a:off x="21002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"/>
            <p:cNvSpPr/>
            <p:nvPr/>
          </p:nvSpPr>
          <p:spPr>
            <a:xfrm>
              <a:off x="2633400" y="310680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423396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27"/>
            <p:cNvSpPr/>
            <p:nvPr/>
          </p:nvSpPr>
          <p:spPr>
            <a:xfrm>
              <a:off x="31669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28"/>
            <p:cNvSpPr/>
            <p:nvPr/>
          </p:nvSpPr>
          <p:spPr>
            <a:xfrm>
              <a:off x="37004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29"/>
            <p:cNvSpPr/>
            <p:nvPr/>
          </p:nvSpPr>
          <p:spPr>
            <a:xfrm>
              <a:off x="47671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Rectangle 30"/>
            <p:cNvSpPr/>
            <p:nvPr/>
          </p:nvSpPr>
          <p:spPr>
            <a:xfrm>
              <a:off x="53006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3416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367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743436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796788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499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103320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69008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70"/>
            <p:cNvSpPr/>
            <p:nvPr/>
          </p:nvSpPr>
          <p:spPr>
            <a:xfrm>
              <a:off x="15667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71"/>
            <p:cNvSpPr/>
            <p:nvPr/>
          </p:nvSpPr>
          <p:spPr>
            <a:xfrm>
              <a:off x="21002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72"/>
            <p:cNvSpPr/>
            <p:nvPr/>
          </p:nvSpPr>
          <p:spPr>
            <a:xfrm>
              <a:off x="2633400" y="24973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73"/>
            <p:cNvSpPr/>
            <p:nvPr/>
          </p:nvSpPr>
          <p:spPr>
            <a:xfrm>
              <a:off x="423396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>
              <a:off x="31669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>
              <a:off x="37004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>
              <a:off x="47671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>
              <a:off x="53006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>
              <a:off x="5834160" y="24973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Rectangle 79"/>
            <p:cNvSpPr/>
            <p:nvPr/>
          </p:nvSpPr>
          <p:spPr>
            <a:xfrm>
              <a:off x="6367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Rectangle 82"/>
            <p:cNvSpPr/>
            <p:nvPr/>
          </p:nvSpPr>
          <p:spPr>
            <a:xfrm>
              <a:off x="499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Rectangle 83"/>
            <p:cNvSpPr/>
            <p:nvPr/>
          </p:nvSpPr>
          <p:spPr>
            <a:xfrm>
              <a:off x="1033200" y="24973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Rectangle 84"/>
            <p:cNvSpPr/>
            <p:nvPr/>
          </p:nvSpPr>
          <p:spPr>
            <a:xfrm>
              <a:off x="69008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18"/>
            <p:cNvSpPr/>
            <p:nvPr/>
          </p:nvSpPr>
          <p:spPr>
            <a:xfrm>
              <a:off x="2786040" y="42498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a block of 128 numb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7" name="Rettangolo 38"/>
          <p:cNvSpPr/>
          <p:nvPr/>
        </p:nvSpPr>
        <p:spPr>
          <a:xfrm>
            <a:off x="115920" y="5300640"/>
            <a:ext cx="5059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: ESC or poin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ttangolo 37"/>
          <p:cNvSpPr/>
          <p:nvPr/>
        </p:nvSpPr>
        <p:spPr>
          <a:xfrm>
            <a:off x="182520" y="4772160"/>
            <a:ext cx="612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0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ttangolo 17"/>
          <p:cNvSpPr/>
          <p:nvPr/>
        </p:nvSpPr>
        <p:spPr>
          <a:xfrm>
            <a:off x="4786200" y="2000160"/>
            <a:ext cx="32148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ttangolo 14"/>
          <p:cNvSpPr/>
          <p:nvPr/>
        </p:nvSpPr>
        <p:spPr>
          <a:xfrm>
            <a:off x="1928880" y="2000160"/>
            <a:ext cx="22860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ttangolo arrotondato 10"/>
          <p:cNvSpPr/>
          <p:nvPr/>
        </p:nvSpPr>
        <p:spPr>
          <a:xfrm>
            <a:off x="4357800" y="1928880"/>
            <a:ext cx="357120" cy="142884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428840"/>
              <a:gd name="textAreaBottom" fmla="*/ 1411560 h 1428840"/>
            </a:gdLst>
            <a:ahLst/>
            <a:rect l="textAreaLeft" t="textAreaTop" r="textAreaRight" b="textAreaBottom"/>
            <a:pathLst>
              <a:path w="21600" h="86356">
                <a:moveTo>
                  <a:pt x="3600" y="0"/>
                </a:moveTo>
                <a:arcTo wR="3600" hR="3600" stAng="16200000" swAng="-5400000"/>
                <a:lnTo>
                  <a:pt x="0" y="82756"/>
                </a:lnTo>
                <a:arcTo wR="3600" hR="3600" stAng="10800000" swAng="-5400000"/>
                <a:lnTo>
                  <a:pt x="18000" y="86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polative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ttangolo 7"/>
          <p:cNvSpPr/>
          <p:nvPr/>
        </p:nvSpPr>
        <p:spPr>
          <a:xfrm>
            <a:off x="1285920" y="20001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1   1   1   2   2   2   2   4   3   1   1  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ttangolo 8"/>
          <p:cNvSpPr/>
          <p:nvPr/>
        </p:nvSpPr>
        <p:spPr>
          <a:xfrm>
            <a:off x="1285920" y="26398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 = 1   2   3   5   7   9   11 15 18 19 20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ttangolo 9"/>
          <p:cNvSpPr/>
          <p:nvPr/>
        </p:nvSpPr>
        <p:spPr>
          <a:xfrm>
            <a:off x="214200" y="3656160"/>
            <a:ext cx="871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cursive co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order traversal of a balanced binary tre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Lucida Sans"/>
              </a:rPr>
              <a:t>At every step we know (initially, they are encoded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M| = 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idx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idx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21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ake the middle element: h= (Lidx+Ridx)/2=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[6]=9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f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h – Lidx = 5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igh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Ridx-h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left_siz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1+5 </a:t>
            </a:r>
            <a:r>
              <a:rPr b="0" lang="en-US" sz="2000" spc="-1" strike="noStrike">
                <a:solidFill>
                  <a:srgbClr val="007254"/>
                </a:solidFill>
                <a:latin typeface="Lucida Sans"/>
              </a:rPr>
              <a:t>= 6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≤ M[h] ≤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right_size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21 – 6)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7254"/>
                </a:solidFill>
                <a:latin typeface="Lucida Sans"/>
              </a:rPr>
              <a:t>= 1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can encode 9 in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15-6+1) = </a:t>
            </a:r>
            <a:r>
              <a:rPr b="0" i="1" lang="en-US" sz="2000" spc="-1" strike="noStrike">
                <a:solidFill>
                  <a:srgbClr val="262673"/>
                </a:solidFill>
                <a:latin typeface="Lucida Sans"/>
              </a:rPr>
              <a:t>4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ttangolo 15"/>
          <p:cNvSpPr/>
          <p:nvPr/>
        </p:nvSpPr>
        <p:spPr>
          <a:xfrm>
            <a:off x="1500120" y="3139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,  hi=9-1=8,  num=5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ttangolo 16"/>
          <p:cNvSpPr/>
          <p:nvPr/>
        </p:nvSpPr>
        <p:spPr>
          <a:xfrm>
            <a:off x="4714920" y="30002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9+1=10,  hi=21,  num=6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338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344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345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6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7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9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8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359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360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1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2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3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4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65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optim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est order for query processing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rter lists first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34320" y="35002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76200" y="4033800"/>
            <a:ext cx="1754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709560" y="456732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2192400" y="357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2192400" y="411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3411360" y="4643280"/>
            <a:ext cx="4876560" cy="304920"/>
            <a:chOff x="3411360" y="4643280"/>
            <a:chExt cx="4876560" cy="304920"/>
          </a:xfrm>
        </p:grpSpPr>
        <p:sp>
          <p:nvSpPr>
            <p:cNvPr id="389" name="Rectangle 10"/>
            <p:cNvSpPr/>
            <p:nvPr/>
          </p:nvSpPr>
          <p:spPr>
            <a:xfrm>
              <a:off x="3411360" y="46432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4020840" y="4643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12"/>
            <p:cNvSpPr/>
            <p:nvPr/>
          </p:nvSpPr>
          <p:spPr>
            <a:xfrm>
              <a:off x="4630320" y="46432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5240160" y="46432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5849640" y="4643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4" name="Group 15"/>
          <p:cNvGrpSpPr/>
          <p:nvPr/>
        </p:nvGrpSpPr>
        <p:grpSpPr>
          <a:xfrm>
            <a:off x="3411360" y="4033800"/>
            <a:ext cx="4940280" cy="398880"/>
            <a:chOff x="3411360" y="4033800"/>
            <a:chExt cx="4940280" cy="398880"/>
          </a:xfrm>
        </p:grpSpPr>
        <p:grpSp>
          <p:nvGrpSpPr>
            <p:cNvPr id="395" name="Group 16"/>
            <p:cNvGrpSpPr/>
            <p:nvPr/>
          </p:nvGrpSpPr>
          <p:grpSpPr>
            <a:xfrm>
              <a:off x="3411360" y="4110120"/>
              <a:ext cx="4876560" cy="304920"/>
              <a:chOff x="3411360" y="4110120"/>
              <a:chExt cx="4876560" cy="304920"/>
            </a:xfrm>
          </p:grpSpPr>
          <p:sp>
            <p:nvSpPr>
              <p:cNvPr id="396" name="Rectangle 17"/>
              <p:cNvSpPr/>
              <p:nvPr/>
            </p:nvSpPr>
            <p:spPr>
              <a:xfrm>
                <a:off x="3411360" y="41101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7" name="Rectangle 18"/>
              <p:cNvSpPr/>
              <p:nvPr/>
            </p:nvSpPr>
            <p:spPr>
              <a:xfrm>
                <a:off x="4020840" y="41101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8" name="Rectangle 19"/>
              <p:cNvSpPr/>
              <p:nvPr/>
            </p:nvSpPr>
            <p:spPr>
              <a:xfrm>
                <a:off x="4630320" y="41101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9" name="Rectangle 20"/>
              <p:cNvSpPr/>
              <p:nvPr/>
            </p:nvSpPr>
            <p:spPr>
              <a:xfrm>
                <a:off x="5240160" y="41101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Line 21"/>
              <p:cNvSpPr/>
              <p:nvPr/>
            </p:nvSpPr>
            <p:spPr>
              <a:xfrm>
                <a:off x="5849640" y="4110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01" name="Text Box 22"/>
            <p:cNvSpPr/>
            <p:nvPr/>
          </p:nvSpPr>
          <p:spPr>
            <a:xfrm>
              <a:off x="355716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42580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4834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541692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5977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66099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72687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Text Box 29"/>
            <p:cNvSpPr/>
            <p:nvPr/>
          </p:nvSpPr>
          <p:spPr>
            <a:xfrm>
              <a:off x="787824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9" name="Group 30"/>
          <p:cNvGrpSpPr/>
          <p:nvPr/>
        </p:nvGrpSpPr>
        <p:grpSpPr>
          <a:xfrm>
            <a:off x="3411360" y="3500280"/>
            <a:ext cx="4876560" cy="457200"/>
            <a:chOff x="3411360" y="3500280"/>
            <a:chExt cx="4876560" cy="457200"/>
          </a:xfrm>
        </p:grpSpPr>
        <p:grpSp>
          <p:nvGrpSpPr>
            <p:cNvPr id="410" name="Group 31"/>
            <p:cNvGrpSpPr/>
            <p:nvPr/>
          </p:nvGrpSpPr>
          <p:grpSpPr>
            <a:xfrm>
              <a:off x="3411360" y="3576600"/>
              <a:ext cx="4876560" cy="304920"/>
              <a:chOff x="3411360" y="3576600"/>
              <a:chExt cx="4876560" cy="304920"/>
            </a:xfrm>
          </p:grpSpPr>
          <p:sp>
            <p:nvSpPr>
              <p:cNvPr id="411" name="Rectangle 32"/>
              <p:cNvSpPr/>
              <p:nvPr/>
            </p:nvSpPr>
            <p:spPr>
              <a:xfrm>
                <a:off x="3411360" y="3576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2" name="Rectangle 33"/>
              <p:cNvSpPr/>
              <p:nvPr/>
            </p:nvSpPr>
            <p:spPr>
              <a:xfrm>
                <a:off x="4020840" y="3576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3" name="Rectangle 34"/>
              <p:cNvSpPr/>
              <p:nvPr/>
            </p:nvSpPr>
            <p:spPr>
              <a:xfrm>
                <a:off x="4630320" y="3576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4" name="Rectangle 35"/>
              <p:cNvSpPr/>
              <p:nvPr/>
            </p:nvSpPr>
            <p:spPr>
              <a:xfrm>
                <a:off x="5240160" y="3576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15" name="Line 36"/>
              <p:cNvSpPr/>
              <p:nvPr/>
            </p:nvSpPr>
            <p:spPr>
              <a:xfrm>
                <a:off x="5849640" y="3576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16" name="Text Box 37"/>
            <p:cNvSpPr/>
            <p:nvPr/>
          </p:nvSpPr>
          <p:spPr>
            <a:xfrm>
              <a:off x="35881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Text Box 38"/>
            <p:cNvSpPr/>
            <p:nvPr/>
          </p:nvSpPr>
          <p:spPr>
            <a:xfrm>
              <a:off x="41486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Text Box 39"/>
            <p:cNvSpPr/>
            <p:nvPr/>
          </p:nvSpPr>
          <p:spPr>
            <a:xfrm>
              <a:off x="47923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Text Box 40"/>
            <p:cNvSpPr/>
            <p:nvPr/>
          </p:nvSpPr>
          <p:spPr>
            <a:xfrm>
              <a:off x="53636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Text Box 41"/>
            <p:cNvSpPr/>
            <p:nvPr/>
          </p:nvSpPr>
          <p:spPr>
            <a:xfrm>
              <a:off x="59702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656244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6992640" y="3500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Text Box 44"/>
            <p:cNvSpPr/>
            <p:nvPr/>
          </p:nvSpPr>
          <p:spPr>
            <a:xfrm>
              <a:off x="767052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4" name="Text Box 45"/>
          <p:cNvSpPr/>
          <p:nvPr/>
        </p:nvSpPr>
        <p:spPr>
          <a:xfrm>
            <a:off x="3421080" y="4567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AutoShape 46"/>
          <p:cNvSpPr/>
          <p:nvPr/>
        </p:nvSpPr>
        <p:spPr>
          <a:xfrm>
            <a:off x="2192400" y="46432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404784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8"/>
          <p:cNvSpPr/>
          <p:nvPr/>
        </p:nvSpPr>
        <p:spPr>
          <a:xfrm>
            <a:off x="1310760" y="5241960"/>
            <a:ext cx="64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Oval 49"/>
          <p:cNvSpPr/>
          <p:nvPr/>
        </p:nvSpPr>
        <p:spPr>
          <a:xfrm>
            <a:off x="5219640" y="342900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Oval 51"/>
          <p:cNvSpPr/>
          <p:nvPr/>
        </p:nvSpPr>
        <p:spPr>
          <a:xfrm>
            <a:off x="6443640" y="393372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Oval 52"/>
          <p:cNvSpPr/>
          <p:nvPr/>
        </p:nvSpPr>
        <p:spPr>
          <a:xfrm>
            <a:off x="3929040" y="4508640"/>
            <a:ext cx="720720" cy="576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47"/>
          <p:cNvSpPr/>
          <p:nvPr/>
        </p:nvSpPr>
        <p:spPr>
          <a:xfrm>
            <a:off x="4724280" y="4600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and the posting lists with word posi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r space occupancy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5÷8%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n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rder pages according to various scores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 position &amp; fre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body, title, anchor,…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k popular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r clicks or prefe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1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442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448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449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0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1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54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2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463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464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5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6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8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69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0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7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348000" y="169488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41443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8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48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9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49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49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9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9" name="AutoShape 16"/>
            <p:cNvCxnSpPr>
              <a:endCxn id="49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0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01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502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4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506" name="AutoShape 23"/>
            <p:cNvCxnSpPr>
              <a:stCxn id="496" idx="3"/>
              <a:endCxn id="502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7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508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9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0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511" name="AutoShape 31"/>
            <p:cNvCxnSpPr>
              <a:stCxn id="508" idx="1"/>
              <a:endCxn id="509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512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4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515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7" name="AutoShape 37"/>
          <p:cNvCxnSpPr>
            <a:stCxn id="508" idx="2"/>
            <a:endCxn id="518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519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520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22" name="AutoShape 41"/>
          <p:cNvCxnSpPr>
            <a:stCxn id="508" idx="2"/>
            <a:endCxn id="515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523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524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525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527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28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518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9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30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1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2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3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534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535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6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537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538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39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0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1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2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3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4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5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6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7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8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49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50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2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554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555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56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57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“weight”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472400" y="2625840"/>
            <a:ext cx="54928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requency 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 =  #occ</a:t>
            </a:r>
            <a:r>
              <a:rPr b="0" i="1" lang="it-IT" sz="23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/ |d|</a:t>
            </a: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8" name="Group 10"/>
          <p:cNvGrpSpPr/>
          <p:nvPr/>
        </p:nvGrpSpPr>
        <p:grpSpPr>
          <a:xfrm>
            <a:off x="622440" y="3322800"/>
            <a:ext cx="7910280" cy="900000"/>
            <a:chOff x="622440" y="3322800"/>
            <a:chExt cx="7910280" cy="900000"/>
          </a:xfrm>
        </p:grpSpPr>
        <p:sp>
          <p:nvSpPr>
            <p:cNvPr id="569" name="Line 11"/>
            <p:cNvSpPr/>
            <p:nvPr/>
          </p:nvSpPr>
          <p:spPr>
            <a:xfrm>
              <a:off x="2054160" y="371016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775656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379080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2771640" y="3562200"/>
              <a:ext cx="57610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Rectangle 15"/>
            <p:cNvSpPr/>
            <p:nvPr/>
          </p:nvSpPr>
          <p:spPr>
            <a:xfrm>
              <a:off x="1433520" y="348948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Rectangle 16"/>
            <p:cNvSpPr/>
            <p:nvPr/>
          </p:nvSpPr>
          <p:spPr>
            <a:xfrm>
              <a:off x="1090440" y="348948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Rectangle 17"/>
            <p:cNvSpPr/>
            <p:nvPr/>
          </p:nvSpPr>
          <p:spPr>
            <a:xfrm>
              <a:off x="2077560" y="3710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Rectangle 18"/>
            <p:cNvSpPr/>
            <p:nvPr/>
          </p:nvSpPr>
          <p:spPr>
            <a:xfrm>
              <a:off x="2098080" y="33544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Rectangle 19"/>
            <p:cNvSpPr/>
            <p:nvPr/>
          </p:nvSpPr>
          <p:spPr>
            <a:xfrm>
              <a:off x="622440" y="348948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Rectangle 20"/>
            <p:cNvSpPr/>
            <p:nvPr/>
          </p:nvSpPr>
          <p:spPr>
            <a:xfrm>
              <a:off x="2215440" y="39942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Rectangle 21"/>
            <p:cNvSpPr/>
            <p:nvPr/>
          </p:nvSpPr>
          <p:spPr>
            <a:xfrm>
              <a:off x="1004760" y="3703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Rectangle 22"/>
            <p:cNvSpPr/>
            <p:nvPr/>
          </p:nvSpPr>
          <p:spPr>
            <a:xfrm>
              <a:off x="23554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Rectangle 23"/>
            <p:cNvSpPr/>
            <p:nvPr/>
          </p:nvSpPr>
          <p:spPr>
            <a:xfrm>
              <a:off x="23554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Rectangle 24"/>
            <p:cNvSpPr/>
            <p:nvPr/>
          </p:nvSpPr>
          <p:spPr>
            <a:xfrm>
              <a:off x="23554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3" name="Rectangle 25"/>
            <p:cNvSpPr/>
            <p:nvPr/>
          </p:nvSpPr>
          <p:spPr>
            <a:xfrm>
              <a:off x="1883880" y="347652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Rectangle 26"/>
            <p:cNvSpPr/>
            <p:nvPr/>
          </p:nvSpPr>
          <p:spPr>
            <a:xfrm>
              <a:off x="1883880" y="36972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5" name="Rectangle 27"/>
            <p:cNvSpPr/>
            <p:nvPr/>
          </p:nvSpPr>
          <p:spPr>
            <a:xfrm>
              <a:off x="1883880" y="332280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1127880" y="34513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7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graphical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463680" y="5805360"/>
            <a:ext cx="5769360" cy="1079280"/>
            <a:chOff x="463680" y="5805360"/>
            <a:chExt cx="5769360" cy="1079280"/>
          </a:xfrm>
        </p:grpSpPr>
        <p:sp>
          <p:nvSpPr>
            <p:cNvPr id="595" name="AutoShape 4"/>
            <p:cNvSpPr/>
            <p:nvPr/>
          </p:nvSpPr>
          <p:spPr>
            <a:xfrm>
              <a:off x="468360" y="5805360"/>
              <a:ext cx="5761080" cy="1079280"/>
            </a:xfrm>
            <a:prstGeom prst="roundRect">
              <a:avLst>
                <a:gd name="adj" fmla="val 16667"/>
              </a:avLst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Text Box 5"/>
            <p:cNvSpPr/>
            <p:nvPr/>
          </p:nvSpPr>
          <p:spPr>
            <a:xfrm>
              <a:off x="463680" y="5873400"/>
              <a:ext cx="576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ostu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Documents that are “close together”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the vector space talk about the same th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uclidean distance sensible to vector length !!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97" name="AutoShape 6"/>
          <p:cNvCxnSpPr/>
          <p:nvPr/>
        </p:nvCxnSpPr>
        <p:spPr>
          <a:xfrm>
            <a:off x="2602080" y="38095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AutoShape 7"/>
          <p:cNvCxnSpPr/>
          <p:nvPr/>
        </p:nvCxnSpPr>
        <p:spPr>
          <a:xfrm flipV="1">
            <a:off x="2601720" y="190440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8"/>
          <p:cNvCxnSpPr/>
          <p:nvPr/>
        </p:nvCxnSpPr>
        <p:spPr>
          <a:xfrm flipH="1">
            <a:off x="848520" y="3809880"/>
            <a:ext cx="17535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AutoShape 9"/>
          <p:cNvCxnSpPr/>
          <p:nvPr/>
        </p:nvCxnSpPr>
        <p:spPr>
          <a:xfrm flipV="1">
            <a:off x="2601720" y="312336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1" name="AutoShape 10"/>
          <p:cNvCxnSpPr/>
          <p:nvPr/>
        </p:nvCxnSpPr>
        <p:spPr>
          <a:xfrm>
            <a:off x="2601720" y="3809520"/>
            <a:ext cx="160092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2" name="AutoShape 11"/>
          <p:cNvCxnSpPr/>
          <p:nvPr/>
        </p:nvCxnSpPr>
        <p:spPr>
          <a:xfrm flipV="1">
            <a:off x="2602080" y="2285280"/>
            <a:ext cx="91512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AutoShape 12"/>
          <p:cNvCxnSpPr/>
          <p:nvPr/>
        </p:nvCxnSpPr>
        <p:spPr>
          <a:xfrm flipH="1">
            <a:off x="2068200" y="3809880"/>
            <a:ext cx="534240" cy="106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AutoShape 13"/>
          <p:cNvCxnSpPr/>
          <p:nvPr/>
        </p:nvCxnSpPr>
        <p:spPr>
          <a:xfrm flipH="1" flipV="1">
            <a:off x="924840" y="2666160"/>
            <a:ext cx="167724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05" name="Text Box 14"/>
          <p:cNvSpPr/>
          <p:nvPr/>
        </p:nvSpPr>
        <p:spPr>
          <a:xfrm>
            <a:off x="4725720" y="37720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516480" y="19810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437000" y="2895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74480" y="25146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199836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055760" y="4419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2150640" y="18288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474120" y="4572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Freeform 22"/>
          <p:cNvSpPr/>
          <p:nvPr/>
        </p:nvSpPr>
        <p:spPr>
          <a:xfrm>
            <a:off x="2144880" y="3657600"/>
            <a:ext cx="304560" cy="546120"/>
          </a:xfrm>
          <a:custGeom>
            <a:avLst/>
            <a:gdLst>
              <a:gd name="textAreaLeft" fmla="*/ 0 w 304560"/>
              <a:gd name="textAreaRight" fmla="*/ 304920 w 3045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92" h="344">
                <a:moveTo>
                  <a:pt x="144" y="0"/>
                </a:moveTo>
                <a:cubicBezTo>
                  <a:pt x="108" y="12"/>
                  <a:pt x="72" y="24"/>
                  <a:pt x="48" y="48"/>
                </a:cubicBezTo>
                <a:cubicBezTo>
                  <a:pt x="24" y="72"/>
                  <a:pt x="0" y="104"/>
                  <a:pt x="0" y="144"/>
                </a:cubicBezTo>
                <a:cubicBezTo>
                  <a:pt x="0" y="184"/>
                  <a:pt x="16" y="256"/>
                  <a:pt x="48" y="288"/>
                </a:cubicBezTo>
                <a:cubicBezTo>
                  <a:pt x="80" y="320"/>
                  <a:pt x="176" y="344"/>
                  <a:pt x="192" y="336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1778040" y="3573360"/>
            <a:ext cx="4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Rectangle 24"/>
          <p:cNvSpPr/>
          <p:nvPr/>
        </p:nvSpPr>
        <p:spPr>
          <a:xfrm>
            <a:off x="4308120" y="184428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AutoShape 25"/>
          <p:cNvSpPr/>
          <p:nvPr/>
        </p:nvSpPr>
        <p:spPr>
          <a:xfrm>
            <a:off x="3321000" y="5265000"/>
            <a:ext cx="5715000" cy="441360"/>
          </a:xfrm>
          <a:prstGeom prst="roundRect">
            <a:avLst>
              <a:gd name="adj" fmla="val 16667"/>
            </a:avLst>
          </a:pr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user query is a very short 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AutoShape 27"/>
          <p:cNvSpPr/>
          <p:nvPr/>
        </p:nvSpPr>
        <p:spPr>
          <a:xfrm>
            <a:off x="5796000" y="2565360"/>
            <a:ext cx="3024000" cy="208764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phisticated alg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o find top-k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or a query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ximate top-k resul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115360" y="5732640"/>
            <a:ext cx="5179680" cy="39888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744200" y="6359400"/>
            <a:ext cx="6247800" cy="398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ow SE use tf-idf  PLUS PageRank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PLUS other weight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630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1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2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6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40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2" name="Group 4"/>
          <p:cNvGrpSpPr/>
          <p:nvPr/>
        </p:nvGrpSpPr>
        <p:grpSpPr>
          <a:xfrm>
            <a:off x="5867280" y="5325480"/>
            <a:ext cx="3238200" cy="1416600"/>
            <a:chOff x="5867280" y="5325480"/>
            <a:chExt cx="3238200" cy="1416600"/>
          </a:xfrm>
        </p:grpSpPr>
        <p:sp>
          <p:nvSpPr>
            <p:cNvPr id="643" name="Oval 5"/>
            <p:cNvSpPr/>
            <p:nvPr/>
          </p:nvSpPr>
          <p:spPr>
            <a:xfrm>
              <a:off x="6726960" y="602388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5968080" y="6485760"/>
              <a:ext cx="80928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>
              <a:off x="5968080" y="5921280"/>
              <a:ext cx="80928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5867280" y="6331680"/>
              <a:ext cx="85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7334280" y="633168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8" name="Text Box 10"/>
            <p:cNvSpPr/>
            <p:nvPr/>
          </p:nvSpPr>
          <p:spPr>
            <a:xfrm>
              <a:off x="7050600" y="532548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7522560" y="5865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 flipV="1">
              <a:off x="7081200" y="5613480"/>
              <a:ext cx="151560" cy="4104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Text Box 13"/>
            <p:cNvSpPr/>
            <p:nvPr/>
          </p:nvSpPr>
          <p:spPr>
            <a:xfrm>
              <a:off x="7822800" y="61167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Text Box 14"/>
            <p:cNvSpPr/>
            <p:nvPr/>
          </p:nvSpPr>
          <p:spPr>
            <a:xfrm>
              <a:off x="6776640" y="5398920"/>
              <a:ext cx="46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’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6357960" y="5711760"/>
                <a:ext cx="27511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852480" y="1862280"/>
                <a:ext cx="524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Rectangle 5"/>
          <p:cNvSpPr/>
          <p:nvPr/>
        </p:nvSpPr>
        <p:spPr>
          <a:xfrm>
            <a:off x="304920" y="545616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6467400" y="1673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ixed valu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6150600" y="2919240"/>
            <a:ext cx="1544760" cy="1430280"/>
            <a:chOff x="6150600" y="2919240"/>
            <a:chExt cx="1544760" cy="1430280"/>
          </a:xfrm>
        </p:grpSpPr>
        <p:sp>
          <p:nvSpPr>
            <p:cNvPr id="660" name="AutoShape 11"/>
            <p:cNvSpPr/>
            <p:nvPr/>
          </p:nvSpPr>
          <p:spPr>
            <a:xfrm rot="18527400">
              <a:off x="6538680" y="3745800"/>
              <a:ext cx="647640" cy="431640"/>
            </a:xfrm>
            <a:prstGeom prst="leftArrow">
              <a:avLst>
                <a:gd name="adj1" fmla="val 50000"/>
                <a:gd name="adj2" fmla="val 3751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Text Box 12"/>
            <p:cNvSpPr/>
            <p:nvPr/>
          </p:nvSpPr>
          <p:spPr>
            <a:xfrm>
              <a:off x="6150600" y="291924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2" name="Object 4"/>
              <p:cNvSpPr txBox="1"/>
              <p:nvPr/>
            </p:nvSpPr>
            <p:spPr>
              <a:xfrm>
                <a:off x="866880" y="3286080"/>
                <a:ext cx="580680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1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ree different interpretation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1518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intuitive interpre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-cit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x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easy for computa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igenvector computation or a linear system sol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ov Chai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(useful to prove convergenc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ort of </a:t>
            </a:r>
            <a:r>
              <a:rPr b="0" lang="en-US" sz="2000" spc="-1" strike="noStrike">
                <a:solidFill>
                  <a:srgbClr val="a50021"/>
                </a:solidFill>
                <a:latin typeface="Lucida Sans"/>
              </a:rPr>
              <a:t>Usage Simu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264200" y="4713840"/>
            <a:ext cx="4583880" cy="2028240"/>
            <a:chOff x="4264200" y="4713840"/>
            <a:chExt cx="4583880" cy="2028240"/>
          </a:xfrm>
        </p:grpSpPr>
        <p:sp>
          <p:nvSpPr>
            <p:cNvPr id="666" name="Oval 5"/>
            <p:cNvSpPr/>
            <p:nvPr/>
          </p:nvSpPr>
          <p:spPr>
            <a:xfrm>
              <a:off x="5559480" y="567540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Line 6"/>
            <p:cNvSpPr/>
            <p:nvPr/>
          </p:nvSpPr>
          <p:spPr>
            <a:xfrm flipV="1">
              <a:off x="4416480" y="636120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Line 7"/>
            <p:cNvSpPr/>
            <p:nvPr/>
          </p:nvSpPr>
          <p:spPr>
            <a:xfrm>
              <a:off x="4416480" y="5522760"/>
              <a:ext cx="1219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9" name="Line 8"/>
            <p:cNvSpPr/>
            <p:nvPr/>
          </p:nvSpPr>
          <p:spPr>
            <a:xfrm>
              <a:off x="4264200" y="6132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>
              <a:off x="6473880" y="6132600"/>
              <a:ext cx="990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Text Box 10"/>
            <p:cNvSpPr/>
            <p:nvPr/>
          </p:nvSpPr>
          <p:spPr>
            <a:xfrm>
              <a:off x="6276960" y="471384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y nod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Text Box 11"/>
            <p:cNvSpPr/>
            <p:nvPr/>
          </p:nvSpPr>
          <p:spPr>
            <a:xfrm>
              <a:off x="6933240" y="549432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 flipV="1">
              <a:off x="6093000" y="5065560"/>
              <a:ext cx="228600" cy="6098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4" name="Text Box 13"/>
            <p:cNvSpPr/>
            <p:nvPr/>
          </p:nvSpPr>
          <p:spPr>
            <a:xfrm>
              <a:off x="7504560" y="58885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Neighbo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5" name="Text Box 14"/>
            <p:cNvSpPr/>
            <p:nvPr/>
          </p:nvSpPr>
          <p:spPr>
            <a:xfrm>
              <a:off x="5810040" y="48290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76" name="Group 15"/>
          <p:cNvGrpSpPr/>
          <p:nvPr/>
        </p:nvGrpSpPr>
        <p:grpSpPr>
          <a:xfrm>
            <a:off x="324000" y="5084640"/>
            <a:ext cx="3816360" cy="1152360"/>
            <a:chOff x="324000" y="5084640"/>
            <a:chExt cx="3816360" cy="1152360"/>
          </a:xfrm>
        </p:grpSpPr>
        <p:sp>
          <p:nvSpPr>
            <p:cNvPr id="677" name="Rectangle 16"/>
            <p:cNvSpPr/>
            <p:nvPr/>
          </p:nvSpPr>
          <p:spPr>
            <a:xfrm>
              <a:off x="324000" y="5084640"/>
              <a:ext cx="3743280" cy="11523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Text Box 17"/>
            <p:cNvSpPr/>
            <p:nvPr/>
          </p:nvSpPr>
          <p:spPr>
            <a:xfrm>
              <a:off x="447840" y="5175000"/>
              <a:ext cx="3692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Lucida Sans"/>
                </a:rPr>
                <a:t>In the steady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” each page has a long-term visit rat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- </a:t>
              </a: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use this as the page’s score.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125360"/>
            <a:ext cx="7236000" cy="2016360"/>
          </a:xfrm>
          <a:prstGeom prst="rect">
            <a:avLst/>
          </a:prstGeom>
          <a:noFill/>
          <a:ln w="698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380360" y="1125360"/>
            <a:ext cx="1763640" cy="5732640"/>
          </a:xfrm>
          <a:prstGeom prst="rect">
            <a:avLst/>
          </a:prstGeom>
          <a:noFill/>
          <a:ln w="698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CasellaDiTesto 5"/>
          <p:cNvSpPr/>
          <p:nvPr/>
        </p:nvSpPr>
        <p:spPr>
          <a:xfrm>
            <a:off x="5817960" y="22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Lucida Sans"/>
              </a:rPr>
              <a:t>+</a:t>
            </a:r>
            <a:r>
              <a:rPr b="1" lang="en-US" sz="3600" spc="-1" strike="noStrike">
                <a:solidFill>
                  <a:srgbClr val="33cc33"/>
                </a:solidFill>
                <a:latin typeface="Lucida Sans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198960"/>
            <a:ext cx="7236000" cy="365904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CasellaDiTesto 7"/>
          <p:cNvSpPr/>
          <p:nvPr/>
        </p:nvSpPr>
        <p:spPr>
          <a:xfrm>
            <a:off x="6035760" y="6068880"/>
            <a:ext cx="6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Lucida Sans"/>
              </a:rPr>
              <a:t>-</a:t>
            </a:r>
            <a:r>
              <a:rPr b="1" lang="en-US" sz="4400" spc="-1" strike="noStrike">
                <a:solidFill>
                  <a:srgbClr val="ff3300"/>
                </a:solidFill>
                <a:latin typeface="Lucida Sans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olfram Alpha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6" name="Picture 3" descr="C:\Users\ferragin\Desktop\Immagine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Users\ferragin\Desktop\Immagine2.png"/>
          <p:cNvPicPr/>
          <p:nvPr/>
        </p:nvPicPr>
        <p:blipFill>
          <a:blip r:embed="rId2"/>
          <a:stretch/>
        </p:blipFill>
        <p:spPr>
          <a:xfrm>
            <a:off x="142920" y="0"/>
            <a:ext cx="64292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ferragin\Desktop\Immagine3.png"/>
          <p:cNvPicPr/>
          <p:nvPr/>
        </p:nvPicPr>
        <p:blipFill>
          <a:blip r:embed="rId3"/>
          <a:stretch/>
        </p:blipFill>
        <p:spPr>
          <a:xfrm>
            <a:off x="14292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20T10:58:40Z</dcterms:modified>
  <cp:revision>1310</cp:revision>
  <dc:subject/>
  <dc:title>Web Algorithmics</dc:title>
</cp:coreProperties>
</file>